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59A-6CA2-40A3-A07C-D8BF22F2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A6A-A8F2-4561-A3EB-3667D63D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79C-C827-4308-BE8D-6026CFF2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542-57FD-4D06-9221-A552A2BD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74FF-29C0-42BB-957D-7D7DDD43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F520-E29E-4D08-A4A1-D767BC85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962E-06D1-47C2-948B-D03DF08E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597A-CAC5-4F3F-A6C3-256F7285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D225-DC29-4A4B-A7AD-346AB3B0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8685-FC5B-4623-8583-2D643E26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B808-9E2B-4D67-8A42-95EE396B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45A-096F-4C59-B3B1-3B138FFD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7CFF-F911-45E3-B08F-40185B04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BE67-34AD-466F-AB1E-9DF55C6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485D-9DC2-47E9-B05B-CCC2637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4A11-B5E1-4061-A5D1-8758FF7B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B5D4-E886-4077-8982-73774BBF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B33-7FB7-4B07-958A-B2330A52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FDF-2A6A-4F45-9867-CEC711E5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7EC-EE3F-46AC-93F2-358E19D4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6A38-C58E-4207-AB8F-696B56B5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65E-2A64-4D1B-B800-336F2DB1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1AC-1A09-4F59-9C17-8477942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50A-DB01-4E0D-A58E-39250ADC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40B6-5E41-46DA-8067-40EA5C6107E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AF27-FC46-4474-A0BC-E31B5F2C8E1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127160"/>
            <a:ext cx="8242200" cy="232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Page 123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Avancemos 3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¡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Pon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te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Book Antiqua"/>
              </a:rPr>
              <a:t>las botas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!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¡Pón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te</a:t>
            </a:r>
            <a:r>
              <a:rPr b="1" lang="en-US" sz="4800" spc="-1" strike="noStrike">
                <a:solidFill>
                  <a:srgbClr val="ffff00"/>
                </a:solidFill>
                <a:latin typeface="Book Antiqua"/>
              </a:rPr>
              <a:t>las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RID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¡No </a:t>
            </a:r>
            <a:r>
              <a:rPr b="1" lang="es-ES" sz="4800" spc="-1" strike="noStrike">
                <a:solidFill>
                  <a:srgbClr val="000000"/>
                </a:solidFill>
                <a:latin typeface="Book Antiqua"/>
              </a:rPr>
              <a:t>te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 pongas </a:t>
            </a:r>
            <a:r>
              <a:rPr b="1" lang="es-ES" sz="4800" spc="-1" strike="noStrike">
                <a:solidFill>
                  <a:srgbClr val="ffff00"/>
                </a:solidFill>
                <a:latin typeface="Book Antiqua"/>
              </a:rPr>
              <a:t>las botas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¡No </a:t>
            </a:r>
            <a:r>
              <a:rPr b="1" lang="es-ES" sz="4800" spc="-1" strike="noStrike">
                <a:solidFill>
                  <a:srgbClr val="000000"/>
                </a:solidFill>
                <a:latin typeface="Book Antiqua"/>
              </a:rPr>
              <a:t>te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4800" spc="-1" strike="noStrike">
                <a:solidFill>
                  <a:srgbClr val="ffff00"/>
                </a:solidFill>
                <a:latin typeface="Book Antiqua"/>
              </a:rPr>
              <a:t>las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 pongas!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RID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98240" indent="-37404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hen the indirect object pronoun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e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es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 comes before the direct object pronoun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o, la, los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, or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as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, change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e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es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 to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se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In other words, Don´t </a:t>
            </a: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Book Antiqua"/>
              </a:rPr>
              <a:t>le</a:t>
            </a: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Book Antiqua"/>
              </a:rPr>
              <a:t> lo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 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Book Antiqua"/>
              </a:rPr>
              <a:t>Se</a:t>
            </a: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Book Antiqua"/>
              </a:rPr>
              <a:t> lo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  !!!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Enrique, explíca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le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 tu </a:t>
            </a:r>
            <a:r>
              <a:rPr b="1" lang="en-US" sz="4800" spc="-1" strike="noStrike">
                <a:solidFill>
                  <a:srgbClr val="ffff00"/>
                </a:solidFill>
                <a:latin typeface="Book Antiqua"/>
              </a:rPr>
              <a:t>punto de vista 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 Raquel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Explíca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se</a:t>
            </a:r>
            <a:r>
              <a:rPr b="1" lang="en-US" sz="4800" spc="-1" strike="noStrike">
                <a:solidFill>
                  <a:srgbClr val="ffff00"/>
                </a:solidFill>
                <a:latin typeface="Book Antiqua"/>
              </a:rPr>
              <a:t>lo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hen you attach two object pronouns to a command, you must add an accent mark to preserve the original stress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3048120" y="5715000"/>
            <a:ext cx="4724280" cy="0"/>
          </a:xfrm>
          <a:prstGeom prst="line">
            <a:avLst/>
          </a:prstGeom>
          <a:ln w="76320">
            <a:solidFill>
              <a:srgbClr val="ceb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Quiero ver las fotos que van a usar para el mercadeo. 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 Antiqua"/>
              </a:rPr>
              <a:t>Dámelas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 por favor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With the nosotros command, drop the -s of the ending before adding the reflexive pronoun 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nos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2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¡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Organicemo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Book Antiqua"/>
              </a:rPr>
              <a:t>s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 una reunión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(drop the “s”)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Book Antiqua"/>
              </a:rPr>
              <a:t>Let´s organize a meeting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¡Organicémo</a:t>
            </a:r>
            <a:r>
              <a:rPr b="1" lang="es-ES" sz="4400" spc="-1" strike="noStrike">
                <a:solidFill>
                  <a:srgbClr val="000000"/>
                </a:solidFill>
                <a:latin typeface="Book Antiqua"/>
              </a:rPr>
              <a:t>nos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Book Antiqua"/>
              </a:rPr>
              <a:t>Let´s get organized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English Grammar Connection: You often use object pronouns with commands to direct the action of the verb at someone or something.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n English, you always place pronouns </a:t>
            </a:r>
            <a:r>
              <a:rPr b="0" i="1" lang="en-US" sz="4000" spc="-1" strike="noStrike">
                <a:solidFill>
                  <a:srgbClr val="ffffff"/>
                </a:solidFill>
                <a:latin typeface="Book Antiqua"/>
              </a:rPr>
              <a:t>after the command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Give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me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 that!  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Don’t read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it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!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In English, the pronouns come AFTER the verb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In Spanish, the pronouns go two places: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Affirmatives ATTACH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Negatives come BEFORE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Affirmative Command: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¡Da</a:t>
            </a:r>
            <a:r>
              <a:rPr b="0" lang="es-ES" sz="4800" spc="-1" strike="noStrike" u="sng">
                <a:solidFill>
                  <a:srgbClr val="000000"/>
                </a:solidFill>
                <a:uFillTx/>
                <a:latin typeface="Book Antiqua"/>
              </a:rPr>
              <a:t>me</a:t>
            </a: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 eso! (attaches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ff"/>
                </a:solidFill>
                <a:latin typeface="Book Antiqua"/>
              </a:rPr>
              <a:t>Give me that!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28600" y="159984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Negative Command: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¡No </a:t>
            </a:r>
            <a:r>
              <a:rPr b="0" lang="es-ES" sz="4800" spc="-1" strike="noStrike" u="sng">
                <a:solidFill>
                  <a:srgbClr val="000000"/>
                </a:solidFill>
                <a:uFillTx/>
                <a:latin typeface="Book Antiqua"/>
              </a:rPr>
              <a:t>lo</a:t>
            </a: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 leas! (before the verb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ff"/>
                </a:solidFill>
                <a:latin typeface="Book Antiqua"/>
              </a:rPr>
              <a:t>Don´t read it!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28600" y="144756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ffirmative: (attach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Julia, describe tu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comunidad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Descr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í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be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la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negative: (before the verb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No </a:t>
            </a:r>
            <a:r>
              <a:rPr b="1" lang="es-ES" sz="4800" spc="-1" strike="noStrike">
                <a:solidFill>
                  <a:srgbClr val="000000"/>
                </a:solidFill>
                <a:latin typeface="Book Antiqua"/>
              </a:rPr>
              <a:t>me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 digas </a:t>
            </a:r>
            <a:r>
              <a:rPr b="1" lang="es-ES" sz="4800" spc="-1" strike="noStrike">
                <a:solidFill>
                  <a:srgbClr val="000000"/>
                </a:solidFill>
                <a:latin typeface="Book Antiqua"/>
              </a:rPr>
              <a:t>la respuesta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No </a:t>
            </a:r>
            <a:r>
              <a:rPr b="1" lang="es-ES" sz="4800" spc="-1" strike="noStrike">
                <a:solidFill>
                  <a:srgbClr val="000000"/>
                </a:solidFill>
                <a:latin typeface="Book Antiqua"/>
              </a:rPr>
              <a:t>me la 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diga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When you use a direct and an indirect object pronoun together, plac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indirect BEFORE the direct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Memorize this acronym: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RID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Reflexive, Indirect, Direct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22:14:12Z</dcterms:created>
  <dc:creator>Suzanne</dc:creator>
  <dc:description/>
  <dc:language>en-US</dc:language>
  <cp:lastModifiedBy>Local User</cp:lastModifiedBy>
  <dcterms:modified xsi:type="dcterms:W3CDTF">2009-11-06T19:07:31Z</dcterms:modified>
  <cp:revision>2</cp:revision>
  <dc:subject/>
  <dc:title>Pronouns with commands</dc:title>
</cp:coreProperties>
</file>